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png" ContentType="image/png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20.wmf" ContentType="image/x-wmf"/>
  <Override PartName="/ppt/media/image119.png" ContentType="image/png"/>
  <Override PartName="/ppt/media/image117.wmf" ContentType="image/x-wmf"/>
  <Override PartName="/ppt/media/image116.wmf" ContentType="image/x-wmf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44.png" ContentType="image/png"/>
  <Override PartName="/ppt/media/image108.wmf" ContentType="image/x-wmf"/>
  <Override PartName="/ppt/media/image105.wmf" ContentType="image/x-wmf"/>
  <Override PartName="/ppt/media/image173.wmf" ContentType="image/x-wmf"/>
  <Override PartName="/ppt/media/image104.wmf" ContentType="image/x-wmf"/>
  <Override PartName="/ppt/media/image172.wmf" ContentType="image/x-wmf"/>
  <Override PartName="/ppt/media/image103.png" ContentType="image/png"/>
  <Override PartName="/ppt/media/image171.png" ContentType="image/png"/>
  <Override PartName="/ppt/media/image101.wmf" ContentType="image/x-wmf"/>
  <Override PartName="/ppt/media/image96.wmf" ContentType="image/x-wmf"/>
  <Override PartName="/ppt/media/image28.wmf" ContentType="image/x-wmf"/>
  <Override PartName="/ppt/media/image95.png" ContentType="image/png"/>
  <Override PartName="/ppt/media/image27.png" ContentType="image/png"/>
  <Override PartName="/ppt/media/image162.wmf" ContentType="image/x-wmf"/>
  <Override PartName="/ppt/media/image92.wmf" ContentType="image/x-wmf"/>
  <Override PartName="/ppt/media/image24.wmf" ContentType="image/x-wmf"/>
  <Override PartName="/ppt/media/image89.wmf" ContentType="image/x-wmf"/>
  <Override PartName="/ppt/media/image87.wmf" ContentType="image/x-wmf"/>
  <Override PartName="/ppt/media/image81.wmf" ContentType="image/x-wmf"/>
  <Override PartName="/ppt/media/image13.wmf" ContentType="image/x-wmf"/>
  <Override PartName="/ppt/media/image76.wmf" ContentType="image/x-wmf"/>
  <Override PartName="/ppt/media/image75.wmf" ContentType="image/x-wmf"/>
  <Override PartName="/ppt/media/image102.png" ContentType="image/png"/>
  <Override PartName="/ppt/media/image170.png" ContentType="image/png"/>
  <Override PartName="/ppt/media/image73.wmf" ContentType="image/x-wmf"/>
  <Override PartName="/ppt/media/image72.wmf" ContentType="image/x-wmf"/>
  <Override PartName="/ppt/media/image71.wmf" ContentType="image/x-wmf"/>
  <Override PartName="/ppt/media/image91.wmf" ContentType="image/x-wmf"/>
  <Override PartName="/ppt/media/image23.wmf" ContentType="image/x-wmf"/>
  <Override PartName="/ppt/media/image69.png" ContentType="image/png"/>
  <Override PartName="/ppt/media/image136.wmf" ContentType="image/x-wmf"/>
  <Override PartName="/ppt/media/image66.wmf" ContentType="image/x-wmf"/>
  <Override PartName="/ppt/media/image64.wmf" ContentType="image/x-wmf"/>
  <Override PartName="/ppt/media/image63.wmf" ContentType="image/x-wmf"/>
  <Override PartName="/ppt/media/image109.wmf" ContentType="image/x-wmf"/>
  <Override PartName="/ppt/media/image152.wmf" ContentType="image/x-wmf"/>
  <Override PartName="/ppt/media/image1.wmf" ContentType="image/x-wmf"/>
  <Override PartName="/ppt/media/image153.wmf" ContentType="image/x-wmf"/>
  <Override PartName="/ppt/media/image52.png" ContentType="image/png"/>
  <Override PartName="/ppt/media/image149.png" ContentType="image/png"/>
  <Override PartName="/ppt/media/image115.png" ContentType="image/png"/>
  <Override PartName="/ppt/media/image38.wmf" ContentType="image/x-wmf"/>
  <Override PartName="/ppt/media/image34.wmf" ContentType="image/x-wmf"/>
  <Override PartName="/ppt/media/image61.wmf" ContentType="image/x-wmf"/>
  <Override PartName="/ppt/media/image106.wmf" ContentType="image/x-wmf"/>
  <Override PartName="/ppt/media/image39.png" ContentType="image/png"/>
  <Override PartName="/ppt/media/image46.wmf" ContentType="image/x-wmf"/>
  <Override PartName="/ppt/media/image50.wmf" ContentType="image/x-wmf"/>
  <Override PartName="/ppt/media/image53.wmf" ContentType="image/x-wmf"/>
  <Override PartName="/ppt/media/image77.png" ContentType="image/png"/>
  <Override PartName="/ppt/media/image144.wmf" ContentType="image/x-wmf"/>
  <Override PartName="/ppt/media/image54.wmf" ContentType="image/x-wmf"/>
  <Override PartName="/ppt/media/image41.wmf" ContentType="image/x-wmf"/>
  <Override PartName="/ppt/media/image138.wmf" ContentType="image/x-wmf"/>
  <Override PartName="/ppt/media/image97.png" ContentType="image/png"/>
  <Override PartName="/ppt/media/image164.wmf" ContentType="image/x-wmf"/>
  <Override PartName="/ppt/media/image55.wmf" ContentType="image/x-wmf"/>
  <Override PartName="/ppt/media/image146.wmf" ContentType="image/x-wmf"/>
  <Override PartName="/ppt/media/image147.png" ContentType="image/png"/>
  <Override PartName="/ppt/media/image148.wmf" ContentType="image/x-wmf"/>
  <Override PartName="/ppt/media/image51.wmf" ContentType="image/x-wmf"/>
  <Override PartName="/ppt/media/image4.png" ContentType="image/png"/>
  <Override PartName="/ppt/media/image151.wmf" ContentType="image/x-wmf"/>
  <Override PartName="/ppt/media/image16.png" ContentType="image/png"/>
  <Override PartName="/ppt/media/image160.wmf" ContentType="image/x-wmf"/>
  <Override PartName="/ppt/media/image40.wmf" ContentType="image/x-wmf"/>
  <Override PartName="/ppt/media/image137.wmf" ContentType="image/x-wmf"/>
  <Override PartName="/ppt/media/image150.wmf" ContentType="image/x-wmf"/>
  <Override PartName="/ppt/media/image83.png" ContentType="image/png"/>
  <Override PartName="/ppt/media/image163.wmf" ContentType="image/x-wmf"/>
  <Override PartName="/ppt/media/image143.png" ContentType="image/png"/>
  <Override PartName="/ppt/media/image49.wmf" ContentType="image/x-wmf"/>
  <Override PartName="/ppt/media/image33.png" ContentType="image/png"/>
  <Override PartName="/ppt/media/image100.wmf" ContentType="image/x-wmf"/>
  <Override PartName="/ppt/media/image166.png" ContentType="image/png"/>
  <Override PartName="/ppt/media/image57.wmf" ContentType="image/x-wmf"/>
  <Override PartName="/ppt/media/image156.wmf" ContentType="image/x-wmf"/>
  <Override PartName="/ppt/media/image133.wmf" ContentType="image/x-wmf"/>
  <Override PartName="/ppt/media/image169.png" ContentType="image/png"/>
  <Override PartName="/ppt/media/image174.png" ContentType="image/png"/>
  <Override PartName="/ppt/media/image131.wmf" ContentType="image/x-wmf"/>
  <Override PartName="/ppt/media/image141.png" ContentType="image/png"/>
  <Override PartName="/ppt/media/image47.wmf" ContentType="image/x-wmf"/>
  <Override PartName="/ppt/media/image142.wmf" ContentType="image/x-wmf"/>
  <Override PartName="/ppt/media/image139.png" ContentType="image/png"/>
  <Override PartName="/ppt/media/image140.wmf" ContentType="image/x-wmf"/>
  <Override PartName="/ppt/media/image135.png" ContentType="image/png"/>
  <Override PartName="/ppt/media/image45.wmf" ContentType="image/x-wmf"/>
  <Override PartName="/ppt/media/image168.wmf" ContentType="image/x-wmf"/>
  <Override PartName="/ppt/media/image129.wmf" ContentType="image/x-wmf"/>
  <Override PartName="/ppt/media/image32.wmf" ContentType="image/x-wmf"/>
  <Override PartName="/ppt/media/image167.wmf" ContentType="image/x-wmf"/>
  <Override PartName="/ppt/media/image48.png" ContentType="image/png"/>
  <Override PartName="/ppt/media/image70.wmf" ContentType="image/x-wmf"/>
  <Override PartName="/ppt/media/image130.wmf" ContentType="image/x-wmf"/>
  <Override PartName="/ppt/media/image11.png" ContentType="image/png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74.png" ContentType="image/png"/>
  <Override PartName="/ppt/media/image42.wmf" ContentType="image/x-wmf"/>
  <Override PartName="/ppt/media/image98.png" ContentType="image/png"/>
  <Override PartName="/ppt/media/image165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37.wmf" ContentType="image/x-wmf"/>
  <Override PartName="/ppt/media/image62.wmf" ContentType="image/x-wmf"/>
  <Override PartName="/ppt/media/image159.wmf" ContentType="image/x-wmf"/>
  <Override PartName="/ppt/media/image7.wmf" ContentType="image/x-wmf"/>
  <Override PartName="/ppt/media/image84.wmf" ContentType="image/x-wmf"/>
  <Override PartName="/ppt/media/image36.wmf" ContentType="image/x-wmf"/>
  <Override PartName="/ppt/media/image158.wmf" ContentType="image/x-wmf"/>
  <Override PartName="/ppt/media/image6.wmf" ContentType="image/x-wmf"/>
  <Override PartName="/ppt/media/image86.wmf" ContentType="image/x-wmf"/>
  <Override PartName="/ppt/media/image18.wmf" ContentType="image/x-wmf"/>
  <Override PartName="/ppt/media/image29.wmf" ContentType="image/x-wmf"/>
  <Override PartName="/ppt/media/image94.wmf" ContentType="image/x-wmf"/>
  <Override PartName="/ppt/media/image10.wmf" ContentType="image/x-wmf"/>
  <Override PartName="/ppt/media/image175.wmf" ContentType="image/x-wmf"/>
  <Override PartName="/ppt/media/image107.wmf" ContentType="image/x-wmf"/>
  <Override PartName="/ppt/media/image35.wmf" ContentType="image/x-wmf"/>
  <Override PartName="/ppt/media/image78.png" ContentType="image/png"/>
  <Override PartName="/ppt/media/image145.wmf" ContentType="image/x-wmf"/>
  <Override PartName="/ppt/media/image161.wmf" ContentType="image/x-wmf"/>
  <Override PartName="/ppt/media/image26.png" ContentType="image/png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155.wmf" ContentType="image/x-wmf"/>
  <Override PartName="/ppt/media/image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19.png" ContentType="image/png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68.png" ContentType="image/png"/>
  <Override PartName="/ppt/media/image134.wmf" ContentType="image/x-wmf"/>
  <Override PartName="/ppt/media/image67.png" ContentType="image/png"/>
  <Override PartName="/ppt/media/image56.wmf" ContentType="image/x-wmf"/>
  <Override PartName="/ppt/media/image99.png" ContentType="image/png"/>
  <Override PartName="/ppt/media/image20.png" ContentType="image/png"/>
  <Override PartName="/ppt/media/image88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43.png" ContentType="image/png"/>
  <Override PartName="/ppt/media/image90.wmf" ContentType="image/x-wmf"/>
  <Override PartName="/ppt/media/image22.wmf" ContentType="image/x-wmf"/>
  <Override PartName="/ppt/media/image65.png" ContentType="image/png"/>
  <Override PartName="/ppt/media/image13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1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114.xml" ContentType="application/vnd.openxmlformats-officedocument.presentationml.slide+xml"/>
  <Override PartName="/ppt/slides/slide89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A515-1959-422F-83F3-F9C35110D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0807-B671-4CE8-AC0D-B827B499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86B-2CAB-4F55-9A24-A46F88D6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663C-A901-476E-8B88-35348BB44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221-8BDA-49D4-AED7-4ABCFD89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659-252E-44BF-AEB2-3BB861828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A91-6A66-4929-A3FA-A67A9FA3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D84-1FD8-4268-AD95-EEE248487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71A-1709-4A87-B5BF-7D944A7E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3388-88B4-4F1F-BA4C-6499A5FA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326-78E7-4B25-85D3-FAC5D8EF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E310-FA81-4907-8E88-CCD9E4E4C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C39C-7620-427C-AFB6-1A687E681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44.wmf"/><Relationship Id="rId2" Type="http://schemas.openxmlformats.org/officeDocument/2006/relationships/image" Target="../media/image145.wmf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46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47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48.wmf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49.png"/><Relationship Id="rId2" Type="http://schemas.openxmlformats.org/officeDocument/2006/relationships/image" Target="../media/image150.wmf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image" Target="../media/image157.wmf"/><Relationship Id="rId6" Type="http://schemas.openxmlformats.org/officeDocument/2006/relationships/image" Target="../media/image158.wmf"/><Relationship Id="rId7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59.wmf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60.wmf"/><Relationship Id="rId2" Type="http://schemas.openxmlformats.org/officeDocument/2006/relationships/image" Target="../media/image161.wmf"/><Relationship Id="rId3" Type="http://schemas.openxmlformats.org/officeDocument/2006/relationships/image" Target="../media/image162.wmf"/><Relationship Id="rId4" Type="http://schemas.openxmlformats.org/officeDocument/2006/relationships/image" Target="../media/image163.wmf"/><Relationship Id="rId5" Type="http://schemas.openxmlformats.org/officeDocument/2006/relationships/image" Target="../media/image164.wmf"/><Relationship Id="rId6" Type="http://schemas.openxmlformats.org/officeDocument/2006/relationships/image" Target="../media/image165.wmf"/><Relationship Id="rId7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6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67.wmf"/><Relationship Id="rId2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68.wmf"/><Relationship Id="rId2" Type="http://schemas.openxmlformats.org/officeDocument/2006/relationships/image" Target="../media/image169.png"/><Relationship Id="rId3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70.png"/><Relationship Id="rId2" Type="http://schemas.openxmlformats.org/officeDocument/2006/relationships/image" Target="../media/image171.png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72.wmf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73.wmf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74.png"/><Relationship Id="rId2" Type="http://schemas.openxmlformats.org/officeDocument/2006/relationships/image" Target="../media/image17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png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0.wmf"/><Relationship Id="rId2" Type="http://schemas.openxmlformats.org/officeDocument/2006/relationships/image" Target="../media/image7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3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image" Target="../media/image81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image" Target="../media/image83.png"/><Relationship Id="rId3" Type="http://schemas.openxmlformats.org/officeDocument/2006/relationships/image" Target="../media/image84.wmf"/><Relationship Id="rId4" Type="http://schemas.openxmlformats.org/officeDocument/2006/relationships/image" Target="../media/image85.wmf"/><Relationship Id="rId5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6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png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98.png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99.png"/><Relationship Id="rId2" Type="http://schemas.openxmlformats.org/officeDocument/2006/relationships/image" Target="../media/image100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0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04.wmf"/><Relationship Id="rId2" Type="http://schemas.openxmlformats.org/officeDocument/2006/relationships/image" Target="../media/image105.wmf"/><Relationship Id="rId3" Type="http://schemas.openxmlformats.org/officeDocument/2006/relationships/image" Target="../media/image106.wmf"/><Relationship Id="rId4" Type="http://schemas.openxmlformats.org/officeDocument/2006/relationships/image" Target="../media/image107.wmf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10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12.wmf"/><Relationship Id="rId2" Type="http://schemas.openxmlformats.org/officeDocument/2006/relationships/image" Target="../media/image113.wmf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15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17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1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19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0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21.wmf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2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23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24.wmf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25.wmf"/><Relationship Id="rId2" Type="http://schemas.openxmlformats.org/officeDocument/2006/relationships/image" Target="../media/image126.png"/><Relationship Id="rId3" Type="http://schemas.openxmlformats.org/officeDocument/2006/relationships/image" Target="../media/image127.wmf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3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31.wmf"/><Relationship Id="rId2" Type="http://schemas.openxmlformats.org/officeDocument/2006/relationships/image" Target="../media/image132.wmf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33.wmf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35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37.wmf"/><Relationship Id="rId2" Type="http://schemas.openxmlformats.org/officeDocument/2006/relationships/image" Target="../media/image138.wmf"/><Relationship Id="rId3" Type="http://schemas.openxmlformats.org/officeDocument/2006/relationships/image" Target="../media/image139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40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4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42.wmf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4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udent will demonstrate an understanding of the structures and properti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53280" y="30492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 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239240" cy="3251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6648480" cy="21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04920" y="3562200"/>
            <a:ext cx="3454200" cy="3295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029200" y="4419720"/>
            <a:ext cx="372420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8442360" y="0"/>
            <a:ext cx="473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B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5208480" cy="33973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800600" y="5334120"/>
            <a:ext cx="4129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8442360" y="0"/>
            <a:ext cx="473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B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334120" y="4419720"/>
            <a:ext cx="358920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648320" y="4495680"/>
            <a:ext cx="4219560" cy="20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4952880" y="4267080"/>
            <a:ext cx="3948120" cy="23734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442360" y="0"/>
            <a:ext cx="47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7548840" cy="20592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1295280" y="5105520"/>
            <a:ext cx="75945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9034560" cy="19461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0" y="1066680"/>
            <a:ext cx="91234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2743200" y="152280"/>
            <a:ext cx="3003480" cy="28800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887400" y="3135240"/>
            <a:ext cx="7369200" cy="5857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2286000" cy="17128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4"/>
          <a:stretch/>
        </p:blipFill>
        <p:spPr>
          <a:xfrm>
            <a:off x="2895480" y="3886200"/>
            <a:ext cx="2286000" cy="170496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5486400" y="3886200"/>
            <a:ext cx="2305080" cy="17496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6019920" y="1066680"/>
            <a:ext cx="220968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4724280" y="4267080"/>
            <a:ext cx="408312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419720" y="0"/>
            <a:ext cx="2958840" cy="283536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689200" cy="236232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914400" y="228600"/>
            <a:ext cx="2689200" cy="234000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4"/>
          <a:stretch/>
        </p:blipFill>
        <p:spPr>
          <a:xfrm>
            <a:off x="304920" y="3048120"/>
            <a:ext cx="2733480" cy="229536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5"/>
          <a:stretch/>
        </p:blipFill>
        <p:spPr>
          <a:xfrm>
            <a:off x="6454800" y="3200400"/>
            <a:ext cx="2689200" cy="227340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04920" y="9907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04812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048120" y="31240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943600" y="342900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6"/>
          <a:stretch/>
        </p:blipFill>
        <p:spPr>
          <a:xfrm>
            <a:off x="685800" y="5943600"/>
            <a:ext cx="732312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5105520" y="4267080"/>
            <a:ext cx="3543120" cy="23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410080" y="4572000"/>
            <a:ext cx="349884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4120" y="4114800"/>
            <a:ext cx="3633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2209680" y="0"/>
            <a:ext cx="3498840" cy="32180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17348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3409920" cy="2610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5181480" y="4572000"/>
            <a:ext cx="358956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8442360" y="0"/>
            <a:ext cx="549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5181480" y="4572000"/>
            <a:ext cx="358956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8442360" y="0"/>
            <a:ext cx="70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10-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835520" y="4923000"/>
            <a:ext cx="430848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8442360" y="0"/>
            <a:ext cx="701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D 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10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438280" y="4952880"/>
            <a:ext cx="6378840" cy="15973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1143000" y="762120"/>
            <a:ext cx="69642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334120" y="4343400"/>
            <a:ext cx="349884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38131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286000" y="457200"/>
            <a:ext cx="3498840" cy="17431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5645160" y="4724280"/>
            <a:ext cx="34988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143480" cy="1778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754848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62520" y="3505320"/>
            <a:ext cx="448920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343400" y="4114800"/>
            <a:ext cx="435456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724280" y="4419720"/>
            <a:ext cx="394812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5703840" cy="16876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52280" y="2082960"/>
            <a:ext cx="2194200" cy="1879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66880" y="1676520"/>
            <a:ext cx="5659560" cy="4105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5137200"/>
            <a:ext cx="3454560" cy="172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 Science Concep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Physics and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knows relationships exist between properties of matter and its components. The student is expec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stigate and identify properties of fluids including density, viscosity, and buoya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relate the chemical behavior of an element including bonding, to its placement on the periodic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) classify samples of matter from everyday life as being elements, compounds, or mix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848720" y="304920"/>
            <a:ext cx="761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 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95280" y="152280"/>
            <a:ext cx="4983120" cy="157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2840" y="304920"/>
            <a:ext cx="5748480" cy="5276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791320" y="4888080"/>
            <a:ext cx="31906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8229600" y="15228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10080" y="2133720"/>
            <a:ext cx="3094200" cy="2216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133720" y="2514600"/>
            <a:ext cx="2419200" cy="1957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33920" y="304920"/>
            <a:ext cx="3408120" cy="1822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533520" y="380880"/>
            <a:ext cx="2508120" cy="2114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4648320" y="6095880"/>
            <a:ext cx="394812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848720" y="30492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groups contains members with similar chemical re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43200" y="2971800"/>
            <a:ext cx="28954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Be,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, Mg, 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, Y, Z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N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848720" y="304920"/>
            <a:ext cx="7617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143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following groups contains members with similar chemical reactivit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2971800"/>
            <a:ext cx="365760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, Be,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e, Mg,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, Y, Z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, N, 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756320" y="4618080"/>
            <a:ext cx="4082760" cy="1935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1880" y="0"/>
            <a:ext cx="60984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486400" y="4724280"/>
            <a:ext cx="327348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390384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914400" y="5105520"/>
            <a:ext cx="72342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520" y="304920"/>
            <a:ext cx="73483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128840" cy="809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371600"/>
            <a:ext cx="3003840" cy="979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0880" y="2819520"/>
            <a:ext cx="3048120" cy="1079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3094200" cy="10461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80880" y="5410080"/>
            <a:ext cx="30942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257800" y="4267080"/>
            <a:ext cx="35434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79800" y="5638680"/>
            <a:ext cx="4264200" cy="1013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848720" y="304920"/>
            <a:ext cx="761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72000" y="4495680"/>
            <a:ext cx="4264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2463840" cy="5176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5029200" y="4800600"/>
            <a:ext cx="385920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638680" y="5105520"/>
            <a:ext cx="3229200" cy="15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4191120"/>
            <a:ext cx="35434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724280" y="4419720"/>
            <a:ext cx="4219560" cy="2138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73840" cy="3419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95280" y="4343400"/>
            <a:ext cx="25545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00600" y="4267080"/>
            <a:ext cx="354348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562720" y="4952880"/>
            <a:ext cx="336384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705312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257800" y="4876920"/>
            <a:ext cx="35892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8381880" y="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7400" y="304920"/>
            <a:ext cx="4398840" cy="20588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43545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848720" y="304920"/>
            <a:ext cx="761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30880" y="4540320"/>
            <a:ext cx="3813120" cy="23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486400" y="4876920"/>
            <a:ext cx="33195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381880" y="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3962520"/>
            <a:ext cx="4173480" cy="26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4173480" cy="2654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362320" y="304920"/>
            <a:ext cx="42638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3543480" cy="19130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3811680" y="3276720"/>
            <a:ext cx="151920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1880" y="0"/>
            <a:ext cx="762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 10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7185240" cy="3014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562720" y="4876920"/>
            <a:ext cx="300348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8381880" y="0"/>
            <a:ext cx="762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10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876920" y="4952880"/>
            <a:ext cx="3994200" cy="15973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981080" y="533520"/>
            <a:ext cx="3948120" cy="34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1880" y="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334120" y="4900680"/>
            <a:ext cx="367812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8381880" y="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     10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345456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 Science Concep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Physics and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ent knows that changes in matter affect everyday life. The student is expected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between physical and chemical changes in matter such as oxidation, digestion, changes in states, and stages in the rock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investigate and identify the law of conservation of ma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7848720" y="304920"/>
            <a:ext cx="609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3903840" cy="43214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495680" y="4572000"/>
            <a:ext cx="435456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381880" y="152280"/>
            <a:ext cx="7621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0"/>
            <a:ext cx="3589560" cy="33307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952880" y="4191120"/>
            <a:ext cx="403884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0/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495680" y="4495680"/>
            <a:ext cx="439920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562720" y="4800600"/>
            <a:ext cx="322884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876920" y="4800600"/>
            <a:ext cx="408276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495680" y="4343400"/>
            <a:ext cx="4083120" cy="21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34120" y="4648320"/>
            <a:ext cx="3363840" cy="1935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762120" y="380880"/>
            <a:ext cx="27334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7683480" cy="2306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914400" y="0"/>
            <a:ext cx="6694560" cy="179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304920" y="2438280"/>
            <a:ext cx="6476760" cy="2695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5410080" y="4267080"/>
            <a:ext cx="354348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322884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349884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105520" y="4343400"/>
            <a:ext cx="363384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0/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3498840" cy="17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57800" y="4952880"/>
            <a:ext cx="3543480" cy="1643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09480" y="1371600"/>
            <a:ext cx="7729560" cy="2025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219320" y="3733920"/>
            <a:ext cx="669420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0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715000" y="5029200"/>
            <a:ext cx="32734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4952880" y="4114800"/>
            <a:ext cx="36338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572000" y="4114800"/>
            <a:ext cx="435456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495680" y="4267080"/>
            <a:ext cx="44434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05920" y="22860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1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7947000" cy="287028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52400" y="3309840"/>
            <a:ext cx="7637400" cy="236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572000" y="4419720"/>
            <a:ext cx="408312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257800" y="4191120"/>
            <a:ext cx="367812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848720" y="304920"/>
            <a:ext cx="609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495680" y="4114800"/>
            <a:ext cx="4308480" cy="22716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973840" cy="34196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990720" y="4114800"/>
            <a:ext cx="255420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105520" y="4956120"/>
            <a:ext cx="3768480" cy="19018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0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159000" y="3208320"/>
            <a:ext cx="28242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438280" y="380880"/>
            <a:ext cx="4399200" cy="2059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105520" y="4648320"/>
            <a:ext cx="3678120" cy="19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5334120" y="4572000"/>
            <a:ext cx="345420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105520" y="3962520"/>
            <a:ext cx="363384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8153280" y="22860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 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666880" y="444600"/>
            <a:ext cx="2328840" cy="2070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5181480" y="152280"/>
            <a:ext cx="2689200" cy="27115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2419200" cy="2745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371600" y="5029200"/>
            <a:ext cx="7369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8153280" y="228600"/>
            <a:ext cx="7621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2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5334120" y="5029200"/>
            <a:ext cx="3498840" cy="14842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2514600" y="1066680"/>
            <a:ext cx="408312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952880" y="3505320"/>
            <a:ext cx="367848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8153280" y="228600"/>
            <a:ext cx="7621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5334120" y="4495680"/>
            <a:ext cx="349884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 10-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952880" y="4724280"/>
            <a:ext cx="3948120" cy="18795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844720" y="3181320"/>
            <a:ext cx="345456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 11-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876920" y="4267080"/>
            <a:ext cx="36781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645160" y="4648320"/>
            <a:ext cx="349884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880920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4876920"/>
            <a:ext cx="7413480" cy="15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8229600" y="152280"/>
            <a:ext cx="685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981080" y="4800600"/>
            <a:ext cx="597384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7848720" y="304920"/>
            <a:ext cx="76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257800" y="4952880"/>
            <a:ext cx="358920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9.5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257800" y="5410080"/>
            <a:ext cx="36338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267080" y="3505320"/>
            <a:ext cx="4443480" cy="29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67392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8229600" y="152280"/>
            <a:ext cx="6858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4264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229600" y="152280"/>
            <a:ext cx="6858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40848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8229600" y="152280"/>
            <a:ext cx="762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10-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4952880" y="4495680"/>
            <a:ext cx="3768840" cy="186696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2960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8229600" y="152280"/>
            <a:ext cx="7621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 10-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229200" cy="41846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28600" y="4572000"/>
            <a:ext cx="3138480" cy="3380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334120" y="4114800"/>
            <a:ext cx="358920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534520" y="304920"/>
            <a:ext cx="6094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404200" cy="27115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830160" y="5238720"/>
            <a:ext cx="83138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. Science Concep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grated Physics and Chemis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udent knows how solution chemistry is a part of everyday life. The student is expect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e the structure of water to is function [as the universal solvent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relate the concentration of ions in a solution to physical and chemical properties such as pH, electrolytic behavior, and re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) demonstrate how various factors influence solubility including temperature, pressure, and nature of the solute and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8442360" y="0"/>
            <a:ext cx="70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10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924440" y="3887640"/>
            <a:ext cx="421956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7848720" y="304920"/>
            <a:ext cx="76176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  10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430848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029200" y="4191120"/>
            <a:ext cx="3948120" cy="245268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057400" y="228600"/>
            <a:ext cx="417348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257800" y="5181480"/>
            <a:ext cx="36338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735520" y="4800600"/>
            <a:ext cx="340848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8442360" y="0"/>
            <a:ext cx="70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4724280" y="4191120"/>
            <a:ext cx="426420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1/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267080" y="3581280"/>
            <a:ext cx="4264200" cy="29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11/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1371600" y="5105520"/>
            <a:ext cx="7594560" cy="155232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838080" y="152280"/>
            <a:ext cx="2598840" cy="320688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318456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 10-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791320" y="5029200"/>
            <a:ext cx="31845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8442360" y="0"/>
            <a:ext cx="70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10/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876920" y="4809960"/>
            <a:ext cx="403848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8442360" y="0"/>
            <a:ext cx="70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 11/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36781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8442360" y="0"/>
            <a:ext cx="47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B IP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970520" y="4349880"/>
            <a:ext cx="417348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6:41:24Z</dcterms:created>
  <dc:creator>Tracy Jolivette</dc:creator>
  <dc:description/>
  <dc:language>en-US</dc:language>
  <cp:lastModifiedBy>Tracy Jolivette</cp:lastModifiedBy>
  <dcterms:modified xsi:type="dcterms:W3CDTF">2007-08-09T17:17:31Z</dcterms:modified>
  <cp:revision>116</cp:revision>
  <dc:subject/>
  <dc:title>Objective 4</dc:title>
</cp:coreProperties>
</file>